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8AA-504C-4F95-AE6D-F7607AB7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02C-A3A8-4591-821C-F051E05ADDE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– Social Bookma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425-1038-449E-84F8-EBCDB5BF70C7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 – sharing links to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FC7-2F22-43C2-9450-2D98C98051A9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350-74FF-4DA3-8DFE-92080B6B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076-CD15-4F86-9D01-88647D1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18E-5D07-49F4-AF0F-253C1653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E13-98D1-4503-AC3D-EAC54079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47FF-03F1-4B49-8AFC-A746289B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1CA-22CC-4915-A320-6782D5D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B597-4B8D-466B-BDBA-2B9AA3EB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356-9791-4A4D-9975-4BFFD424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1B3-5713-44AF-9A47-603F767E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F8E-0B25-4BE2-8DEF-642925F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AAE-13A6-44B1-B566-47B0117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FDB-B5A4-4AE0-B3AE-3019C7A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645-2502-4454-A488-FCEFD7B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D89-9981-4150-AB54-548D374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1BE6-45DD-4F9A-A86F-B88D436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855-5C33-4D45-A9DD-AE343CF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6A9-DEFC-450D-9677-CC83ED09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F58-F882-441B-946E-C623840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61A-47F5-4331-BED1-5093C61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FB1-D4D8-4C27-9076-116851E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973-4164-451C-8B2F-628CDF35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6EF-3318-41D8-A0A5-2CB840F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828-C12F-48B8-B061-BD7F544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842-05DA-4491-9FBC-0802D4D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12D0-2864-454A-9765-B134C755B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B8E7-521B-42FE-8719-4339584354B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Web_2.0_Map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l.icio.us_logo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ing of bookma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mmon tags categorize related 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olksonomy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is a portmanteau of the words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olk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taxonomy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ag Clou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ight” of tag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Picture 5" descr="Image:Web 2.0 Map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733920"/>
            <a:ext cx="356544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l.icio.us, Furl, Digg, many oth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advantag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agging can be problematic, e.g., teacher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≠ teachers ≠ teaching or even tea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Too many tags can cause confus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  <a:ea typeface="Tahoma"/>
              </a:rPr>
              <a:t>Links to specific tag groups can be provided to studen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l.icio.u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en bookmarks are added, the channel is updat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ew as list or clou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n be embedded in other pages (wiki, blog, regular webpage) using R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asy to do RSS: see Richardson p. 99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Picture 7" descr="The del.icio.us &quot;logo&quot; as seen on the del.icio.us sit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80880"/>
            <a:ext cx="16761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ookmarking takes some pract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benefits should be clear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ookmarks all on the Web for easy acces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ility to sh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ility to find other sites of intere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8-07-15T14:53:48Z</dcterms:modified>
  <cp:revision>134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